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5BA8-BAD0-42A3-8758-A54F6701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B500-FBBB-4E69-938C-F479DA64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59F3-51F5-441C-B2CD-13431718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BDEC-611F-4BFA-8294-981D297B6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DEB1-DC6F-4A74-95F0-C23280B05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1102-34BB-4613-89E0-479E0B7E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D47D-A961-4E61-8705-4FE764A0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BCF9-2A6C-4EA6-91D2-282DAB35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7CFC-723A-4B7C-9C93-DBC9D65B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B216-8691-476C-9FBA-9F445A3D9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8BA3-FB55-49BB-AA89-E0BBEDA0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A9C1-21CF-46A1-BD0C-F49A4477E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669D-1EEE-4DA8-BE33-737917FA5D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95280" y="2204640"/>
            <a:ext cx="4537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0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95640" y="2708280"/>
            <a:ext cx="45370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333333"/>
                </a:solidFill>
                <a:latin typeface="Arial"/>
              </a:rPr>
              <a:t>Your company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10-10T10:44:36Z</dcterms:modified>
  <cp:revision>708</cp:revision>
  <dc:subject/>
  <dc:title>Diapositiva 1</dc:title>
</cp:coreProperties>
</file>