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769-4927-4CB9-B281-221971A5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02E-A137-4BA2-B037-2429E235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D6E-37C6-4815-96B1-DC26D900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9A1-07F5-40D9-84C3-772B69F8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742-047B-4E0E-AEC8-CE29BF4B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A35-57D3-4CEA-BA79-6E31C64E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328-106E-4DDE-B564-3E17D834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890-14C9-41B8-BE3F-B9B726F9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3E4-9173-4A13-9AA4-FD4705DD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894-4966-4687-8AE4-783C7CE1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698-1C6C-400E-B0D3-692720AE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17C-DB33-44CA-ADBC-A0122820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B4B-7260-4603-95AA-1E4DF0117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2204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270828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333333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0T10:44:36Z</dcterms:modified>
  <cp:revision>708</cp:revision>
  <dc:subject/>
  <dc:title>Diapositiva 1</dc:title>
</cp:coreProperties>
</file>