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FF4D-59ED-457E-B56E-B9BD86D27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5AE9-5490-4B28-BC21-49CB4F76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55D7-D6BD-440B-812C-56C8F184C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1F41-0925-4C88-A218-E2D3D46A0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D853-E389-4DA6-8C1A-6E18FD09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56D8-2609-45E8-95B4-FFB4B78D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84E0-E270-4C50-9F81-0A8A5DED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163D-7A11-4FD5-87C5-17AE64FE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AB1B-0F00-4A22-A248-BAA8EFCC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3848-AF69-459D-A4BB-3BAD5698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162C-EEBF-4568-80DD-4E2210E5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D566-CB18-4BCA-87FE-4411650E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9C5A-0B07-4BEC-82E7-8E737D461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95280" y="2204640"/>
            <a:ext cx="453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333333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95640" y="2708280"/>
            <a:ext cx="45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333333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0-10T10:44:36Z</dcterms:modified>
  <cp:revision>708</cp:revision>
  <dc:subject/>
  <dc:title>Diapositiva 1</dc:title>
</cp:coreProperties>
</file>